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FF9-4090-421E-A899-14A05BB8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871-0FF9-4E41-A2CE-9D5173F6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1E9-C3B4-4660-B41A-17D7768D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D0F-A5DB-42CF-B917-119299DF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F15C-93A7-4F1E-8FF8-19B41E16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E6A3-910B-4B85-8636-E0ED1348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2126-B73E-4749-9CBD-34F31D0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6222-8978-454A-8274-E4F385E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D9D8-3A9F-4022-81B6-EE7A8F65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D5EC-D6DD-42B0-93CD-1D0EB7F3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6EF-FA58-460E-809B-028C94B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272-B8CF-4672-8A53-3D3A0121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A44A-1035-4F89-B973-633E552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3EBC-F5D2-400C-89CA-6444140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4FF-3DB1-47E0-92F3-D8B5B80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F57-3DC8-4BBC-8083-91F47289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3D56-1BB5-41A0-9F33-9BDDEF45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5F9-41EE-4073-94EF-5C7545DD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895-1BA6-420D-85BD-58D3E041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EBA-8F4D-455F-88A4-28F08FEF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B78-D32B-4A06-8099-140C35B9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E87-8361-4CF9-A8BD-E2494D8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83B-C0E7-4D00-9921-0C91AAE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348-5875-4718-B45D-6E249CC1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766-DF9F-42AC-868D-3A53873A8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777-121C-4A32-B7BE-39278DEA8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828800" y="1981080"/>
            <a:ext cx="6686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01b0ff"/>
                    </a:gs>
                  </a:gsLst>
                  <a:lin ang="5400000"/>
                </a:gradFill>
                <a:latin typeface="Times New Roman"/>
              </a:rPr>
              <a:t>DNA: THE ALAPHABET OF LIF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01b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4956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BY CHRIS W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567240" y="2940120"/>
            <a:ext cx="339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R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1676520" y="3733920"/>
            <a:ext cx="990360" cy="167616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676160"/>
              <a:gd name="textAreaBottom" fmla="*/ 1612080 h 1676160"/>
            </a:gdLst>
            <a:ahLst/>
            <a:rect l="textAreaLeft" t="textAreaTop" r="textAreaRight" b="textAreaBottom"/>
            <a:pathLst>
              <a:path w="21600" h="36552">
                <a:moveTo>
                  <a:pt x="0" y="0"/>
                </a:moveTo>
                <a:lnTo>
                  <a:pt x="21600" y="0"/>
                </a:lnTo>
                <a:lnTo>
                  <a:pt x="21600" y="36552"/>
                </a:lnTo>
                <a:lnTo>
                  <a:pt x="0" y="36552"/>
                </a:lnTo>
                <a:close/>
              </a:path>
              <a:path fill="lightenLess" w="21600" h="36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552">
                <a:moveTo>
                  <a:pt x="21600" y="0"/>
                </a:moveTo>
                <a:lnTo>
                  <a:pt x="21600" y="36552"/>
                </a:lnTo>
                <a:lnTo>
                  <a:pt x="20200" y="35152"/>
                </a:lnTo>
                <a:lnTo>
                  <a:pt x="20200" y="1400"/>
                </a:lnTo>
                <a:close/>
              </a:path>
              <a:path fill="darkenLess" w="21600" h="36552">
                <a:moveTo>
                  <a:pt x="21600" y="36552"/>
                </a:moveTo>
                <a:lnTo>
                  <a:pt x="0" y="36552"/>
                </a:lnTo>
                <a:lnTo>
                  <a:pt x="1400" y="35152"/>
                </a:lnTo>
                <a:lnTo>
                  <a:pt x="20200" y="35152"/>
                </a:lnTo>
                <a:close/>
              </a:path>
              <a:path fill="lighten" w="21600" h="36552">
                <a:moveTo>
                  <a:pt x="0" y="36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5152"/>
                </a:lnTo>
                <a:close/>
              </a:path>
              <a:path fill="darken" w="21600" h="36552">
                <a:moveTo>
                  <a:pt x="3794" y="18276"/>
                </a:moveTo>
                <a:lnTo>
                  <a:pt x="17806" y="11270"/>
                </a:lnTo>
                <a:lnTo>
                  <a:pt x="17806" y="25282"/>
                </a:lnTo>
                <a:close/>
              </a:path>
            </a:pathLst>
          </a:custGeom>
          <a:solidFill>
            <a:srgbClr val="99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6280" y="685800"/>
            <a:ext cx="64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2680" y="220968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CATGGTCAT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5760" y="28638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GAGTACCAGTA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3930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EXAMPLE OF A GENETIC CODE THAT MAY BE FOUND IN YOUR BOD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31840" y="590400"/>
            <a:ext cx="64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27160" y="20257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BINATIONS OF THE NITROGEN BASES IS THE CODE THAT PRODUCES THE GENES FOR A PARTICULAR TRA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9960" y="609480"/>
            <a:ext cx="64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7160" y="20257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RE CAN BE SO MANY DIFFERENT COMBINATIONIS OF THE BASES THE CODE CAN BE LIMIT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55520" y="590400"/>
            <a:ext cx="64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50480" y="2101680"/>
            <a:ext cx="723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CGTCAGG MAY BE FOR HAI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CGTCAGC MAY BE FOR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31480" y="514440"/>
            <a:ext cx="701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REPLIC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133720"/>
            <a:ext cx="3886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LICATION: IS THE PROCESS WHERE DNA MOLECULES FORM EXACT DUPLICA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65840" y="38545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fig11p12x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3886200" cy="4800600"/>
          </a:xfrm>
          <a:prstGeom prst="rect">
            <a:avLst/>
          </a:prstGeom>
          <a:ln w="0">
            <a:noFill/>
          </a:ln>
        </p:spPr>
      </p:pic>
      <p:pic>
        <p:nvPicPr>
          <p:cNvPr id="174" name="fig11p12x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31480" y="438120"/>
            <a:ext cx="701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REPLIC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6320" y="2178000"/>
            <a:ext cx="51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ADDER SPLI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0481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 FREE FLOATING NITROGE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ES BEGIN TO PAIR WI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STR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50840" y="469260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TWO NEW DNA CHAINS AR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00200" y="21337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ES AND PASSES ON GENETIC INFORMATION FROM ONE GENERATION TO ANOTHER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7800" y="38088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36840" y="501480"/>
            <a:ext cx="58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OXYRIBONUCLEIC AC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8560" y="457200"/>
            <a:ext cx="64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0680" y="2178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2096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NA STRUCTURE IS SHAPED LIKED A SPIRAL STAIRCASE, 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ISTED LAD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025720"/>
            <a:ext cx="725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DNA%20MODEL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3480" y="533520"/>
            <a:ext cx="64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1780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UTER PARTS OF THE OF THE LADDER ARE MADE OF SUGAR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08160" y="590400"/>
            <a:ext cx="64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2543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TEPS OF THE LADDER ARE MADE OF PAIRS OF NITROGEN BAS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60440" y="514440"/>
            <a:ext cx="64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057400"/>
            <a:ext cx="75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INE  =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UANINE = 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YTOSINE =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YMINE = 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ARE REPRESENTED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CAPITAL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9960" y="533520"/>
            <a:ext cx="64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286000"/>
            <a:ext cx="601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2080" y="233028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ONLY ONE WAY THE NITROGEN BASES CAN FOR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560" y="3809880"/>
            <a:ext cx="73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INE PAIRS WITH THYM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UANINE PAIRS WITH CYTOS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7680" y="0"/>
            <a:ext cx="64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NA STRUC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0360" y="95868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STIO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2440" y="210168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C JOIN WITH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960" y="289548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G JOIN WITH 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71600" y="40068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71240" y="484488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17800" y="3192480"/>
            <a:ext cx="2873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162920" y="3048120"/>
            <a:ext cx="990360" cy="18288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828800"/>
              <a:gd name="textAreaBottom" fmla="*/ 1764720 h 1828800"/>
            </a:gdLst>
            <a:ahLst/>
            <a:rect l="textAreaLeft" t="textAreaTop" r="textAreaRight" b="textAreaBottom"/>
            <a:pathLst>
              <a:path w="21600" h="39880">
                <a:moveTo>
                  <a:pt x="0" y="0"/>
                </a:moveTo>
                <a:lnTo>
                  <a:pt x="21600" y="0"/>
                </a:lnTo>
                <a:lnTo>
                  <a:pt x="21600" y="39880"/>
                </a:lnTo>
                <a:lnTo>
                  <a:pt x="0" y="39880"/>
                </a:lnTo>
                <a:close/>
              </a:path>
              <a:path fill="lightenLess" w="21600" h="398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880">
                <a:moveTo>
                  <a:pt x="21600" y="0"/>
                </a:moveTo>
                <a:lnTo>
                  <a:pt x="21600" y="39880"/>
                </a:lnTo>
                <a:lnTo>
                  <a:pt x="20200" y="38480"/>
                </a:lnTo>
                <a:lnTo>
                  <a:pt x="20200" y="1400"/>
                </a:lnTo>
                <a:close/>
              </a:path>
              <a:path fill="darkenLess" w="21600" h="39880">
                <a:moveTo>
                  <a:pt x="21600" y="39880"/>
                </a:moveTo>
                <a:lnTo>
                  <a:pt x="0" y="39880"/>
                </a:lnTo>
                <a:lnTo>
                  <a:pt x="1400" y="38480"/>
                </a:lnTo>
                <a:lnTo>
                  <a:pt x="20200" y="38480"/>
                </a:lnTo>
                <a:close/>
              </a:path>
              <a:path fill="lighten" w="21600" h="39880">
                <a:moveTo>
                  <a:pt x="0" y="39880"/>
                </a:moveTo>
                <a:lnTo>
                  <a:pt x="0" y="0"/>
                </a:lnTo>
                <a:lnTo>
                  <a:pt x="1400" y="1400"/>
                </a:lnTo>
                <a:lnTo>
                  <a:pt x="1400" y="38480"/>
                </a:lnTo>
                <a:close/>
              </a:path>
              <a:path fill="darken" w="21600" h="39880">
                <a:moveTo>
                  <a:pt x="3794" y="12933"/>
                </a:moveTo>
                <a:lnTo>
                  <a:pt x="17806" y="19940"/>
                </a:lnTo>
                <a:lnTo>
                  <a:pt x="3794" y="26946"/>
                </a:lnTo>
                <a:close/>
              </a:path>
            </a:pathLst>
          </a:custGeom>
          <a:solidFill>
            <a:srgbClr val="99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18:24Z</dcterms:created>
  <dc:creator>Jefferson County Schools</dc:creator>
  <dc:description/>
  <dc:language>en-US</dc:language>
  <cp:lastModifiedBy>Jefferson County Schools</cp:lastModifiedBy>
  <dcterms:modified xsi:type="dcterms:W3CDTF">1999-12-14T19:41:01Z</dcterms:modified>
  <cp:revision>11</cp:revision>
  <dc:subject/>
  <dc:title>PowerPoint Presentation</dc:title>
</cp:coreProperties>
</file>